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439400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169-33FF-46E6-85C6-E05DC8BC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560" y="453672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087-BD63-498A-BCE8-B6216A5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03D-17B8-474D-8EFF-FDB67C2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708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56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708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640-C14A-4DA2-90B2-3920BDE2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F49-9330-471C-B51D-287A3D8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C22-9C2E-4C43-93B2-62C1345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686-9D75-4F8D-BD31-2EA3C6E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5F4-E84C-4CD5-862D-CCE94781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0560" y="314280"/>
            <a:ext cx="93996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2F0-E6B6-4DEC-988F-BF1E3B8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B50-1818-4265-B6D7-F5F0D4C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5D4-39F9-4E0F-A982-8457679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90E-16D2-4331-AFB9-ED19FFE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541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541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560" y="7148520"/>
            <a:ext cx="244008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8320" y="7148520"/>
            <a:ext cx="330372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0080" y="7148520"/>
            <a:ext cx="243972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fld id="{8B1D546E-CE3B-46B6-AD76-4182110929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ШКОЛА КРАЕВЕДА</a:t>
            </a:r>
            <a:br>
              <a:rPr sz="31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грамма рассчитана на учащихся 8-11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40040" y="1742760"/>
            <a:ext cx="6282000" cy="5181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й час «Древнерусская святыня, родина богатырей» (О Владимирской земл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тавка-вернисаж «С почтеньем к старине далек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посиделки в музее «Белокаменная летопись Владимирской Рус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 исторического портрета «Дипломат и воин» (О князе А.Невск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чтения «Владимирские губернаторы. Долгоруков – губернатор и поэ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тературный калейдоскоп «Русские писатели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рнир знатоков «Загадки старого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очное путешествие по городу «Улицы расскажут ва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чтения «И.Е.Репин в с.Варвари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стреча с ветеранами Великой Отечественной войны «Годы войны – века памя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ий КВН «Край, в котором мы жив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0560" y="2674800"/>
            <a:ext cx="28720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ТЕРАТУРНОЕ КРАЕВЕДЕНИЕ</a:t>
            </a:r>
            <a:br>
              <a:rPr sz="4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рамма рассчитана на учащихся 7-9 класс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: приобщение учащихся к лучшим образцам художественной литературы Владимирского края, воспитание любви к краеведческой кн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5040" y="1830240"/>
            <a:ext cx="9194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ая экскурсия по литературным местам Владими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час «Древнюю быль до вас донесу» (Эдуард Зор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о-музыкальная гостиная «Вязниковский соловей» (Алексей Фатья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час «Певец Владимирских проселков» (Владимир Солоу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курс чтецов стихотворений В.Солоу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калейдоскоп «С книгами Сергея Голицына по Владимирскому кр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ое историческое путешествие по книге Любови Фоминцевой «Сунгирская лоша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Грибоедов и Владимирский кра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раеведческий час «Автор бессмертной строки» (Александр Одое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ечер поэзии «Вернисаж владимирски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э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51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5-02-04T07:0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